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4DD7-952D-4806-ABC9-481FC692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9923-6CDE-478B-95BA-184AE1C3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C58-4B61-432F-8EB4-D05033B5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563-BF9F-4473-981E-3FC5105D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811-48E8-43DD-9521-1CF695CC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822-F893-4AE7-BF2A-FB9CC337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FFF-C689-4D2B-AAD2-C1DA572C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0C1-4D18-4CE3-BE18-D0E95042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804-9AEF-41F9-9E59-45D4A44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83E-51E1-4EDA-9E05-D8AE9B06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58A-53E6-46CD-BC77-A3F3AC88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1CA-22AC-4EC6-8D6D-F78E80DF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D8F-E893-4B28-97C9-20FC26BB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587-4C6C-4C0D-BBB7-1A834B28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A47C-A7F7-487B-B52C-FBFE571C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elin Col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elin Col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05320"/>
            <a:ext cx="16002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, buenos dias? Mi nombre es Kaelin. Yo vivo en el New York City. Yo tengo catorce años.Yo tengo no hermanos. Yo soy bien. Estoy el aburriia Viva la vida llo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2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0" descr="Photo on 2011-10-21 at 13.39 #2.jpg"/>
          <p:cNvPicPr/>
          <p:nvPr/>
        </p:nvPicPr>
        <p:blipFill>
          <a:blip r:embed="rId3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Quién quierer vomanos afuer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ada y tú? Nosotras tenemos estud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qué haces y usted trabajar. Estan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! ¿Cuándo? Yo voy corr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666880" y="5105520"/>
            <a:ext cx="441972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perar,pueden.Tienes quierer hel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57913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ansada y quiero comer cenar. Adi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s ellas? Yo son cansada. Mis amigas nuestras el loca!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¿Es familia bien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3" descr="Photo on 2011-11-29 at 13.54.jpg"/>
          <p:cNvPicPr/>
          <p:nvPr/>
        </p:nvPicPr>
        <p:blipFill>
          <a:blip r:embed="rId4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647712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us hermanas son boni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6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6400800"/>
            <a:ext cx="463320" cy="93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Photo on 12-6-12 at 9.30 AM.jpg"/>
          <p:cNvPicPr/>
          <p:nvPr/>
        </p:nvPicPr>
        <p:blipFill>
          <a:blip r:embed="rId6"/>
          <a:stretch/>
        </p:blipFill>
        <p:spPr>
          <a:xfrm>
            <a:off x="0" y="4572000"/>
            <a:ext cx="63972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76320" y="51055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ys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4" descr="Photo on 12-6-12 at 9.30 AM.jpg"/>
          <p:cNvPicPr/>
          <p:nvPr/>
        </p:nvPicPr>
        <p:blipFill>
          <a:blip r:embed="rId7"/>
          <a:stretch/>
        </p:blipFill>
        <p:spPr>
          <a:xfrm>
            <a:off x="1962000" y="4419720"/>
            <a:ext cx="744840" cy="1085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7" descr="Photo on 12-6-12 at 9.30 AM.jpg"/>
          <p:cNvPicPr/>
          <p:nvPr/>
        </p:nvPicPr>
        <p:blipFill>
          <a:blip r:embed="rId8"/>
          <a:stretch/>
        </p:blipFill>
        <p:spPr>
          <a:xfrm>
            <a:off x="2041560" y="5711760"/>
            <a:ext cx="665280" cy="97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hoto on 12-6-12 at 9.35 AM.jpg"/>
          <p:cNvPicPr/>
          <p:nvPr/>
        </p:nvPicPr>
        <p:blipFill>
          <a:blip r:embed="rId9"/>
          <a:stretch/>
        </p:blipFill>
        <p:spPr>
          <a:xfrm>
            <a:off x="2041560" y="2511360"/>
            <a:ext cx="652320" cy="93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Photo on 12-6-12 at 9.35 AM.jpg"/>
          <p:cNvPicPr/>
          <p:nvPr/>
        </p:nvPicPr>
        <p:blipFill>
          <a:blip r:embed="rId10"/>
          <a:stretch/>
        </p:blipFill>
        <p:spPr>
          <a:xfrm>
            <a:off x="2041560" y="3809880"/>
            <a:ext cx="652320" cy="933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3" descr="Photo on 12-6-12 at 9.35 AM.jpg"/>
          <p:cNvPicPr/>
          <p:nvPr/>
        </p:nvPicPr>
        <p:blipFill>
          <a:blip r:embed="rId11"/>
          <a:stretch/>
        </p:blipFill>
        <p:spPr>
          <a:xfrm>
            <a:off x="2041560" y="5102280"/>
            <a:ext cx="652320" cy="93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Photo on 12-6-12 at 9.35 AM.jpg"/>
          <p:cNvPicPr/>
          <p:nvPr/>
        </p:nvPicPr>
        <p:blipFill>
          <a:blip r:embed="rId12"/>
          <a:stretch/>
        </p:blipFill>
        <p:spPr>
          <a:xfrm>
            <a:off x="669960" y="4572000"/>
            <a:ext cx="6523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2:30Z</dcterms:modified>
  <cp:revision>112</cp:revision>
  <dc:subject/>
  <dc:title>Profile</dc:title>
</cp:coreProperties>
</file>